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95A-7608-4D29-860C-A93A9922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72C-AC12-4EBB-99FC-6A0351B2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E374C-905B-4025-852D-B66BEE3A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051E8-6701-488F-9162-B0831848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9F2E5-6493-48C8-8DAB-A3BC1CA0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F6D44-F8C0-455C-9D0A-B51267EC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0D2B9-A74F-43A9-A57B-757D0F48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7B007-1CB2-4899-8EEF-7639BEDD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D9271-7006-4FF4-B384-6165826F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DF72C-A24D-4A06-8B17-E92573EB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A5354-3129-4F5D-B23F-8A645752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5B39E-86B4-400A-B00A-7CB90BDD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698-10C8-44C4-9FE9-39615648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8993F-8D4A-422F-89D7-15874B29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9C4AF-73CF-420C-8CE8-597A77FD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46D34-24FA-49D7-8F60-B21B961F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BE2B3-9FDB-445D-9204-E70CF7BB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B5C7B-DB06-433B-8525-C6CBDE6F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0AB20-6553-4E12-A64A-E8F7766A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779CE-3378-492F-941E-21570FAB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05BAE-60C1-4645-BFEF-DAC42746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192C4-0A39-4B04-B99E-9E180300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1BA39-C2B8-4BB5-8F14-C1BB6676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08C-A8CD-4120-BDCB-23FB434B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348CE-A5BC-48AB-B29E-24BB7EF5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9FC5D-F7C2-441C-8AEA-14A9C787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6FB44-5B6B-4099-912B-F483CC4C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216D0-57EE-4042-B888-D3685571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E768F-8906-4CA8-ACF2-C12E131F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7D850-A890-47EB-ADDA-D6C79454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0B2A6-B65B-4997-AF5A-84074E88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D83CC-E4C6-4D56-8B43-3AD70269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90E8B-0767-4EA4-A009-A8D9D065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F3FF3-8FCC-4A23-9BC0-25198D5E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6B6D-6C05-4D8A-8261-19BD1DC1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08D05-C999-41BF-9B98-6075B1FF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1548F-EDEB-4BFC-9177-D17838D3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3D71C-792C-49CF-9547-DEDE136B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DCE74-5DE2-4FB3-BC34-9A5E7C82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FF905-110E-4EB8-832D-43D017F9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20EA8-A9AB-427B-8624-98FEFEB5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7DF95-65BA-45C1-9238-32E03021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FDDC8-CDEA-48CA-8181-07125354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8BF02-741F-42E9-9301-CFAEA560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04A10-9166-4FDA-9997-C5548501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A954-A138-4AEC-ADD3-6526F132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1F432-3B63-44FE-B4CB-4473746C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771C4-CF15-42A5-BEFC-01A11152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4227C-D151-4883-B513-4C1F615A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C567A-EB27-487E-BEF0-79DAC3B0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8E535-3E70-423E-AD04-A4B8461F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72023-EAC8-458F-B10C-A30F7830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9D3E8-3C31-4176-B328-D06A8DF4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EB40C-E9A8-45FA-A4D7-5BCCA860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1D74B-A103-44E7-8B8B-DF2708BA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697BE-B8DF-45A9-8584-836BF9B2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173F-9F1E-472A-8882-1455F859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DB0CC-442E-4127-B1AC-CCB186EB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E7A4B-EE48-4281-B5C2-732D0CB3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EB952-A963-48C8-90F4-F43208B4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05848A-B07A-465F-ABA7-BCC209EC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7F86C-1D56-4DBC-AF59-3301CDD9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F5FE7-7EEE-4681-BEF3-EA713959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DAB63-1A6C-4996-ADA2-DD663562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F30FD-CF0F-4650-96DA-7B16D3AC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A5AEC-C6E1-48E7-8A2D-96C4AB5D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95973F-C1FE-43B3-AF03-4CBD993C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AF50-2F6A-4076-B5A6-C531EC19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5297D-7571-4B18-B281-E1D0197C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14887-C8F5-4527-8F48-44730D06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34866-9908-49CE-AC1F-6F088C2E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1E5BB-22D4-412B-8676-0DAC4725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9E5CA4-AC4A-43E6-AAE2-6A4F2AA0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76FB7-0B1D-4736-8A0B-B9AECA6B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C155D0-644A-48FB-A9E5-C4AEB50D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2CF8F0-0D29-4C8D-80F7-C592B838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C1D5E-1BB1-4F62-8880-1FF1B1C8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91D57-12D7-4000-96D9-61D4352C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89EF-3A60-4749-8F32-B1CCF947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C34D6-060D-4CB9-A5D9-6237D37D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3A478-EBB8-4AF6-AB35-4499DD2D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9B77F-A6F0-4D14-AC3D-30363890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ACCA4C-CA5B-4A6E-A9EB-2F0864F5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65145A-0C64-4829-80DA-67C87D0F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C8691-7834-450B-90EE-F1D45150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3EF20-CF28-4AB1-B661-71928CF3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B7DB1E-81A8-448A-8865-FF9DDAB3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A5E6DA-C831-4B6F-B07F-B22DE9B6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6628DC-DEAC-4ED3-AEF2-60388C34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5704-598F-4C4E-B440-1B008398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14BFEA-4386-42E8-9B20-214C49F0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9A73D5-9BEB-4438-8BC6-35004B71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047D79-EFC5-4202-ACC9-D73B6DDB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53D5D-3166-4882-93BE-79DF9BE0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FAF482-0350-4026-AE96-DFB7F5A4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6B421-3B5C-4B3D-A822-0E84EE14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AD00FF-3802-4CBE-AC75-2D3E2E34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4C1D06-089D-4C5D-A236-CBF13701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CC7E59-0958-4988-953D-9EFAE09A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5922C6-1349-43DE-91C4-D1DA684C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2B5C-BDCE-425F-9938-E1FABD21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B2233D-2CE6-4CD1-911F-CCC3AA86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507456-B76E-4348-B5E6-10D09A51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309C0F-3841-4EEA-8375-0EA8B1C8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1F579F-6634-4670-830C-97BB0ACF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8897CB-5A20-4EBF-B10C-F8BDBADD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3D85F6-7EEA-4F8F-90F2-5B35EE72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23ED9A-E1D0-40CC-835B-6FD5AD0F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6150C1-85F8-4885-8A7B-C9D619E2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65A6E-514E-4CE5-80A3-EBB5AAEC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3EF751-8992-4B0B-8F4D-6771ABC6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79D-92ED-406C-B8B1-67A793BA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4C26-D50A-41A1-9C6B-4AB49D5E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178AFB-29CB-42A0-A1F4-C757F7BC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B5D974-8F52-41B4-B6AC-D286A6C3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167DEC-D8FC-4E32-8B00-589ECA4E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72ABBC-5E3D-4FF7-94E3-CE9BE5B7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B02516-F1E2-443E-801F-9E9294C5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8F79E2-F75F-4680-BD9E-91666903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0E1428-179B-44BF-8B00-4C454B9A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255ECD-9492-4D76-AA85-C5C2B68A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BF4BEC-F034-4DD1-970A-76E782A2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A03FF4-CCFE-4678-9A08-92B94083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ED11-5869-4003-ADC2-5B97F837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E3DB37-29E7-4137-917C-0A0A7721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6049DA-0E7F-46D6-9C2D-926C7518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B592D1-7DBA-4649-AE02-014AFCA9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DE5CD7-2631-4BE0-98AC-EA71C64D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F2300D-7A44-4C51-AF70-3E112D60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53C5B-4E14-4B48-ADA0-E6CAA08A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0D760B-3EC8-4E53-8C4C-12952AD3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2340FF-7943-4912-8269-121205D7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5513D-898F-4343-B09E-5D607FDD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468E15-6E1E-4396-9891-3404CF21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9FD8-2B90-4FC1-AEA4-9E9E2237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918554-36CC-477D-85B1-28149ACD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0B6C24-F067-46CD-AA2E-CBD43E82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469346-B85B-44BF-8B31-7DA186A0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A29BDE-1FD3-4260-A0A3-9DCC5C7A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C79333-FBD2-459E-B67F-D88CE7FF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3C3435-DED7-49D3-9009-F4758F49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0DFF93-A0A8-44A8-A702-A769F95B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1FDFC0-B992-4BD4-ADD7-20ED14AD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4DB539-B722-49D4-A944-5D06B88A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B6D571-35C9-4FE8-9C5B-40C97F9C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D64F-EA7C-44D9-AF1F-4AA02375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2E7F7B-E930-4675-B1E4-3C89425A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55D856-65F8-4DEB-ADC2-47D22734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A55ECE-78E5-42C0-91F0-8E3D2141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2552A6-B863-4BB0-84F5-8863589E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4D07D0-3C12-4B01-89C3-AACD2F7A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84BBA6-DFF2-4404-BF15-EB9B43C6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A13378-DDA7-4AC7-B18C-009BDAE9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8E7273-0F00-46BA-BF70-7D078272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88E8FE-E518-42F5-8844-23B3E153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55F336-B2C0-4B9C-93E9-FF03BDB7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81AA-DE97-48F3-9BEE-9C0DDD24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BE5582-579F-40EC-8072-35AE949E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73F4B3-4F3C-4FD2-8475-84A7D597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986516-0C42-4757-A63D-B9610590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A5FA65-9429-49F1-8FBA-9B4C69C5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46498F-4D2D-4402-8F16-CC699467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7364B2-F5A7-4A43-8E31-B168AA6B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D8D842-BFA3-4376-AAB4-455BCD58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2EC494-5643-4A8A-9D24-7FD789BF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5A43C7-03D9-4F80-8215-78EE673B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96AD9D-FD9C-4405-BB4E-B94DC757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EBE46-98B1-451D-B6C5-756D3CAF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EF4D7F-2C47-4C48-9C0A-D819D58E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76695B-4CCD-4551-ABF6-EDA0BA70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4920FA-B3EB-4CB8-B0D4-3AEF338B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0DCAF-8011-4B1A-BA53-5DE68A24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DA923-B3B1-47D6-9D4D-ECB0859A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E2AF-77E3-4DF2-93C1-139A0FE1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F097-4792-40FE-B6C4-2A3166A5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E45-6D5E-4418-9D86-5DDE6FF9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C7572-AE10-4EF0-8A3A-46802A31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9E9FC-0AF9-4163-B6B2-F3E7ECCB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FAF6-9695-4D79-83A8-3A9127B7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25EF-8820-4081-BBDC-472ABF7C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EB98-4C66-402C-BD33-7160F246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A719F-7C03-452B-A3AC-8B5B18DE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6C6B4-73EF-47E3-A5CE-3DA5CD81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17DFF-ACBA-400D-917C-D5CA97DD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A94F4-3AA8-4593-8957-1464D996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513C1-9918-480C-B74D-E515C463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57A-F347-4432-A172-A37C55F8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E2317-EEA0-4F84-A35C-8BEA9F15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DAE3F-BB09-4366-8F9B-0098AF7B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0B947-0856-40E1-8AFE-ADC407AF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6AD5D-30B4-47A7-953C-FE715B76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71C26-F155-465D-ACDC-E0292D6E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B9E50-D874-49DB-B93D-4F0A690E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E6C7B-3940-45F7-B7E1-80325A44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C615D-3D39-44FE-ABCB-93AF34B0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76E36-5068-4C4C-99C4-9C219372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426A9-0B9E-4DA3-93B9-1A2BA5E9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A70-2A08-4C7D-BA60-037E5BD7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D2CFB-3C9A-4E6B-8390-3CBAA424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EC846-C8EF-4ABD-B3CB-C51C9007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53FF2-2D9F-4D09-B3A5-CB5DE6C8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F2C4B-795D-4143-92EA-0588B018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C6662-22B2-41B1-8AE1-42478285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B6EC5-026D-4B69-8D89-C01898DC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56281-AFE9-47BE-844C-EF23D75F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2F8F4-C45D-4E91-A2AD-59D43A93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5072C-B4A5-4E99-BBE9-0E67BB86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2EF66-1D07-476A-8379-02A261C6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77F8-E646-4349-A592-151E7C90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EA4F8-1448-4C3C-9494-88EAB9FB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F1A40-00A1-42AA-89B2-64EAA949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23B77-9D95-4A5F-BEF3-A1AC51D2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0EA73-83E5-4762-A798-CF277E69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E6E16-A18A-48B2-B7EB-C651ABFF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AB20B-CE61-45E0-9EE9-926A58E0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A7068-4B13-4CA4-BC0E-AE203844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3F6B1-5DA4-4AE8-9C8B-DEB75C5D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44C44-5113-4839-8FB8-995B36F5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D9213-E94F-4820-82BB-D3466DEA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9FA-F5D7-4286-B5B0-C105A1C5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B0683-BF43-467A-9D1A-4F2DDB91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87BDC-457C-43FF-A1E0-0F36C10A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A31D4-5873-42B9-BE88-C1355EF8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F9964-EFC2-437E-ACB9-D7ADEE0E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1AD9D-A369-435D-9521-E4080F21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A4A38-BAA0-4AD1-B9F0-871EC971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C10E1-211D-4E3F-A8EF-23EB01D7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11DCB-0404-4E89-B79A-A5533BB1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1F91E-DB87-4D49-93F8-BDDC7090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D13DE-6BC4-49C3-A9CE-DF82CFB3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5CD0-DC9D-4ECD-B9AD-0AAB1857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78F08-C4AC-4EC8-B938-4EF1D073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BE434-E819-442B-8B9C-26D18B08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DBF03-C1B3-4EC3-A93C-CCBE9A27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72027-CBF1-4A78-B65D-176C0141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053C6-C630-4B3C-AC02-77C52FE1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804F5-649F-45F4-80AD-18A58378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0FF2A-A6DC-4BAC-9FEC-42CEDC7D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E0FA4-78CB-464B-A324-3CF742D2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BA422-E82A-4788-B13C-7702AEA5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6A063-F915-482A-98FC-2EEE8E34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3AC-57D4-4FEF-B0C6-2B086391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77030-2BAF-4120-9BF2-29609EFB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477EB-33AB-4CCE-937A-AB43B12C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7D2D6-B6DB-4D9B-9993-59C8C474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19ECD-404B-449D-BFE0-6964FCE2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6E744-0D7C-4F57-84CE-E6CCCED7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9285E-7D94-477F-A1AD-5BC264ED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22C1B-C174-41DA-A758-1449FEE4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789CC-2AB3-48D9-82B9-CCD3A41E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B9B50-D48E-4926-BE01-5EEE660B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1D161-40E9-4FDE-9D5E-F92AAB04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6337-9962-4948-9568-28AC2F01B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13AB-8134-46B3-B687-EE989CC023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5DF3-5E5E-4F9F-83DB-69266AE8D4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B6FE-D23C-4970-A114-E8AA2D1398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CFFE-A981-4832-8839-3F5E738685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6268-BE7B-42AE-843A-EABCF1DB19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831B-814B-4AD6-B49C-A4B368332C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8F1E-A2E8-42CC-A177-1B558B6648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30B0-CE77-4857-8A7E-7A1A1B9F63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CDFF-F942-4C0E-AA77-A45F03D486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CE18-D9C0-4936-B128-7E4362B9DE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599A-1CED-4DBB-97C5-A3D56A5EFA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4CF6-829B-474E-8AAB-54BF3FF351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6423-CF94-462C-916E-7402146CEF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A98D-4B7A-4F1E-AA82-823C58E497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7383-8877-42BD-B7A7-B2ED776EAB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13BD-E269-4C47-BC6A-AC3E88ACC5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DE26-1C77-44C1-A77C-957A8B10D9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E8D2-5FDA-4485-9385-970FA27A19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C7AB-6454-4A2D-98E5-C2B551BC1B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1CBB-26A3-48D9-BDB2-11E2B64E87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D16A-A082-4B4D-9B3E-B214C6287F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9DF6-FD3E-452F-96D1-FA28F9E1F5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2AAB-F586-4D9C-9997-DF7264EB98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4D3C-42D1-45BB-B246-9C78D986C3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174D-F00E-41DF-8BA3-E61C41A388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6F6D-48EA-466F-B103-92F899982D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DB37-EFEA-416B-B305-D479EBD47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2D62-0A7A-4A32-AD04-5ECDD736E7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D906-565C-4361-B377-77BE14115A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36E3-DF17-44F8-9C52-6B6AAAB964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8C8D-2482-42E4-9F61-AF2CC90F64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3BF4-C9CD-430F-A28F-7666362D1B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AB8C-B399-4B2F-8C91-CE44554691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B7FE-6C14-4B5E-809A-6783395C61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5C64-FBAE-45BE-8656-3919610739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4BFA-D03D-45FB-9530-B230DE27BB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D0B9-E924-4AB0-8913-CC2B9CEC1D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7A48-9511-42EF-BD87-CE1BE0E02A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2BC8-4B2A-497A-B29D-35BA8D4191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428920" y="2786040"/>
            <a:ext cx="4143240" cy="5716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1643040" y="3714840"/>
            <a:ext cx="56959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285840" y="923760"/>
            <a:ext cx="8572320" cy="5505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285840" y="3244680"/>
            <a:ext cx="5072040" cy="3747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285840" y="3786120"/>
            <a:ext cx="5072040" cy="3747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4"/>
          <a:stretch/>
        </p:blipFill>
        <p:spPr>
          <a:xfrm>
            <a:off x="285840" y="4340160"/>
            <a:ext cx="5072040" cy="374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5"/>
          <a:stretch/>
        </p:blipFill>
        <p:spPr>
          <a:xfrm>
            <a:off x="285840" y="4911840"/>
            <a:ext cx="5072040" cy="374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6"/>
          <a:stretch/>
        </p:blipFill>
        <p:spPr>
          <a:xfrm>
            <a:off x="285840" y="5483160"/>
            <a:ext cx="7500960" cy="374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7"/>
          <a:stretch/>
        </p:blipFill>
        <p:spPr>
          <a:xfrm>
            <a:off x="285840" y="6054840"/>
            <a:ext cx="8786880" cy="37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857160" y="928800"/>
            <a:ext cx="6867720" cy="15048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" descr=""/>
          <p:cNvPicPr/>
          <p:nvPr/>
        </p:nvPicPr>
        <p:blipFill>
          <a:blip r:embed="rId2"/>
          <a:stretch/>
        </p:blipFill>
        <p:spPr>
          <a:xfrm>
            <a:off x="428760" y="3000240"/>
            <a:ext cx="8381880" cy="35910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3"/>
          <a:stretch/>
        </p:blipFill>
        <p:spPr>
          <a:xfrm>
            <a:off x="285840" y="10206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4"/>
          <a:stretch/>
        </p:blipFill>
        <p:spPr>
          <a:xfrm>
            <a:off x="285840" y="1641600"/>
            <a:ext cx="8786880" cy="7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514440" y="1085760"/>
            <a:ext cx="8115120" cy="50580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2"/>
          <a:stretch/>
        </p:blipFill>
        <p:spPr>
          <a:xfrm>
            <a:off x="285840" y="22446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3"/>
          <a:stretch/>
        </p:blipFill>
        <p:spPr>
          <a:xfrm>
            <a:off x="285840" y="282564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4"/>
          <a:stretch/>
        </p:blipFill>
        <p:spPr>
          <a:xfrm>
            <a:off x="285840" y="335772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5"/>
          <a:stretch/>
        </p:blipFill>
        <p:spPr>
          <a:xfrm>
            <a:off x="285840" y="392904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6"/>
          <a:stretch/>
        </p:blipFill>
        <p:spPr>
          <a:xfrm>
            <a:off x="285840" y="44830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7"/>
          <a:stretch/>
        </p:blipFill>
        <p:spPr>
          <a:xfrm>
            <a:off x="285840" y="50148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8"/>
          <a:stretch/>
        </p:blipFill>
        <p:spPr>
          <a:xfrm>
            <a:off x="285840" y="562608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2" descr=""/>
          <p:cNvPicPr/>
          <p:nvPr/>
        </p:nvPicPr>
        <p:blipFill>
          <a:blip r:embed="rId1"/>
          <a:stretch/>
        </p:blipFill>
        <p:spPr>
          <a:xfrm>
            <a:off x="276120" y="966960"/>
            <a:ext cx="8591760" cy="5676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2"/>
          <a:stretch/>
        </p:blipFill>
        <p:spPr>
          <a:xfrm>
            <a:off x="285840" y="3346560"/>
            <a:ext cx="8786880" cy="4269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3"/>
          <a:stretch/>
        </p:blipFill>
        <p:spPr>
          <a:xfrm>
            <a:off x="285840" y="384660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4"/>
          <a:stretch/>
        </p:blipFill>
        <p:spPr>
          <a:xfrm>
            <a:off x="285840" y="434988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5"/>
          <a:stretch/>
        </p:blipFill>
        <p:spPr>
          <a:xfrm>
            <a:off x="285840" y="477828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6"/>
          <a:stretch/>
        </p:blipFill>
        <p:spPr>
          <a:xfrm>
            <a:off x="285840" y="527832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7"/>
          <a:stretch/>
        </p:blipFill>
        <p:spPr>
          <a:xfrm>
            <a:off x="285840" y="571824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8"/>
          <a:stretch/>
        </p:blipFill>
        <p:spPr>
          <a:xfrm>
            <a:off x="285840" y="6207120"/>
            <a:ext cx="87868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399960" y="1233360"/>
            <a:ext cx="8344080" cy="4838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2"/>
          <a:stretch/>
        </p:blipFill>
        <p:spPr>
          <a:xfrm>
            <a:off x="285840" y="12859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3"/>
          <a:stretch/>
        </p:blipFill>
        <p:spPr>
          <a:xfrm>
            <a:off x="285840" y="177480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4"/>
          <a:stretch/>
        </p:blipFill>
        <p:spPr>
          <a:xfrm>
            <a:off x="285840" y="226548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5"/>
          <a:stretch/>
        </p:blipFill>
        <p:spPr>
          <a:xfrm>
            <a:off x="285840" y="273384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6"/>
          <a:stretch/>
        </p:blipFill>
        <p:spPr>
          <a:xfrm>
            <a:off x="285840" y="321480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7"/>
          <a:stretch/>
        </p:blipFill>
        <p:spPr>
          <a:xfrm>
            <a:off x="285840" y="370368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8"/>
          <a:stretch/>
        </p:blipFill>
        <p:spPr>
          <a:xfrm>
            <a:off x="285840" y="413532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9"/>
          <a:stretch/>
        </p:blipFill>
        <p:spPr>
          <a:xfrm>
            <a:off x="285840" y="46576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10"/>
          <a:stretch/>
        </p:blipFill>
        <p:spPr>
          <a:xfrm>
            <a:off x="285840" y="51451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11"/>
          <a:stretch/>
        </p:blipFill>
        <p:spPr>
          <a:xfrm>
            <a:off x="285840" y="562608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1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467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538200" y="1123920"/>
            <a:ext cx="8067600" cy="51627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2"/>
          <a:stretch/>
        </p:blipFill>
        <p:spPr>
          <a:xfrm>
            <a:off x="285840" y="1143000"/>
            <a:ext cx="5572080" cy="374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3"/>
          <a:stretch/>
        </p:blipFill>
        <p:spPr>
          <a:xfrm>
            <a:off x="285840" y="1662120"/>
            <a:ext cx="5572080" cy="7128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4"/>
          <a:stretch/>
        </p:blipFill>
        <p:spPr>
          <a:xfrm>
            <a:off x="285840" y="2500200"/>
            <a:ext cx="5572080" cy="3747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5"/>
          <a:stretch/>
        </p:blipFill>
        <p:spPr>
          <a:xfrm>
            <a:off x="285840" y="2979720"/>
            <a:ext cx="5572080" cy="3747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6"/>
          <a:stretch/>
        </p:blipFill>
        <p:spPr>
          <a:xfrm>
            <a:off x="285840" y="3459240"/>
            <a:ext cx="5572080" cy="3744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7"/>
          <a:stretch/>
        </p:blipFill>
        <p:spPr>
          <a:xfrm>
            <a:off x="285840" y="3917880"/>
            <a:ext cx="5572080" cy="3762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8"/>
          <a:stretch/>
        </p:blipFill>
        <p:spPr>
          <a:xfrm>
            <a:off x="285840" y="440388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9"/>
          <a:stretch/>
        </p:blipFill>
        <p:spPr>
          <a:xfrm>
            <a:off x="285840" y="48816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10"/>
          <a:stretch/>
        </p:blipFill>
        <p:spPr>
          <a:xfrm>
            <a:off x="285840" y="534024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11"/>
          <a:stretch/>
        </p:blipFill>
        <p:spPr>
          <a:xfrm>
            <a:off x="285840" y="581976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1" descr=""/>
          <p:cNvPicPr/>
          <p:nvPr/>
        </p:nvPicPr>
        <p:blipFill>
          <a:blip r:embed="rId1"/>
          <a:stretch/>
        </p:blipFill>
        <p:spPr>
          <a:xfrm>
            <a:off x="928800" y="1052640"/>
            <a:ext cx="7324560" cy="20192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2"/>
          <a:stretch/>
        </p:blipFill>
        <p:spPr>
          <a:xfrm>
            <a:off x="285840" y="1111320"/>
            <a:ext cx="8786880" cy="4446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3"/>
          <a:stretch/>
        </p:blipFill>
        <p:spPr>
          <a:xfrm>
            <a:off x="285840" y="157176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4"/>
          <a:stretch/>
        </p:blipFill>
        <p:spPr>
          <a:xfrm>
            <a:off x="285840" y="209088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5"/>
          <a:stretch/>
        </p:blipFill>
        <p:spPr>
          <a:xfrm>
            <a:off x="285840" y="2560680"/>
            <a:ext cx="87868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34:19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